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B9EE-4199-40A7-8437-9D351E6DF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6BBE-D474-4318-A63C-74DEA854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C849-C48E-4751-A02C-D3167A98F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0130-A02A-4D1B-B9D8-927CED359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4BF7-0243-4A8D-A1F6-4C8F20DD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C118-8C5E-4AB6-87EA-623DB06D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1662-7081-4327-8B55-BEDEF53E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580F-54EF-4A23-82FF-4EB79A05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5A53-245D-4B62-A001-0D02B197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A594-9806-4699-ACC6-0ECA57FD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6823-9870-4167-93A7-3EDE22CD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1C86-1882-4C88-B84C-1E1AFA70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E1DB-5EAF-498C-BD5F-02F49E66C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Évangéli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organ (Guillau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Des paroles des chansons qui me font sentir beaucoups des émotion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905120"/>
            <a:ext cx="32004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Arial"/>
              </a:rPr>
              <a:t>Να είσαι εκεί</a:t>
            </a:r>
            <a:br>
              <a:rPr sz="1800"/>
            </a:br>
            <a:r>
              <a:rPr b="0" lang="el-GR" sz="1800" spc="-1" strike="noStrike">
                <a:solidFill>
                  <a:srgbClr val="ffff00"/>
                </a:solidFill>
                <a:latin typeface="Arial"/>
              </a:rPr>
              <a:t>Πάντα μέσα στη ζωή μου</a:t>
            </a:r>
            <a:br>
              <a:rPr sz="1800"/>
            </a:br>
            <a:r>
              <a:rPr b="0" lang="el-GR" sz="1800" spc="-1" strike="noStrike">
                <a:solidFill>
                  <a:srgbClr val="ffff00"/>
                </a:solidFill>
                <a:latin typeface="Arial"/>
              </a:rPr>
              <a:t>Τα φώτα της ν' ανάβεις</a:t>
            </a:r>
            <a:br>
              <a:rPr sz="1800"/>
            </a:br>
            <a:r>
              <a:rPr b="0" lang="el-GR" sz="1800" spc="-1" strike="noStrike">
                <a:solidFill>
                  <a:srgbClr val="ffff00"/>
                </a:solidFill>
                <a:latin typeface="Arial"/>
              </a:rPr>
              <a:t>Κι ας μην τη ζεις μαζί μου</a:t>
            </a:r>
            <a:br>
              <a:rPr sz="1800"/>
            </a:br>
            <a:r>
              <a:rPr b="0" lang="el-GR" sz="1800" spc="-1" strike="noStrike">
                <a:solidFill>
                  <a:srgbClr val="ffff00"/>
                </a:solidFill>
                <a:latin typeface="Arial"/>
              </a:rPr>
              <a:t>Αν λίγο μ' αγαπάς</a:t>
            </a:r>
            <a:br>
              <a:rPr sz="1800"/>
            </a:br>
            <a:r>
              <a:rPr b="0" lang="el-GR" sz="1800" spc="-1" strike="noStrike">
                <a:solidFill>
                  <a:srgbClr val="ffff00"/>
                </a:solidFill>
                <a:latin typeface="Arial"/>
              </a:rPr>
              <a:t>Να είσαι εκεί</a:t>
            </a:r>
            <a:br>
              <a:rPr sz="1800"/>
            </a:br>
            <a:r>
              <a:rPr b="0" lang="el-GR" sz="1800" spc="-1" strike="noStrike">
                <a:solidFill>
                  <a:srgbClr val="ffff00"/>
                </a:solidFill>
                <a:latin typeface="Arial"/>
              </a:rPr>
              <a:t>Αγάπη της ζωής μου</a:t>
            </a:r>
            <a:br>
              <a:rPr sz="1800"/>
            </a:br>
            <a:r>
              <a:rPr b="0" lang="el-GR" sz="1800" spc="-1" strike="noStrike">
                <a:solidFill>
                  <a:srgbClr val="ffff00"/>
                </a:solidFill>
                <a:latin typeface="Arial"/>
              </a:rPr>
              <a:t>Αγάπη δυνατ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l-GR" sz="1800" spc="-1" strike="noStrike">
                <a:solidFill>
                  <a:srgbClr val="ffff00"/>
                </a:solidFill>
                <a:latin typeface="Arial"/>
              </a:rPr>
              <a:t>Μιχάλης Χατζιγιαννη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1905120"/>
            <a:ext cx="5410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Por asegurar la sonrisa de tu alm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buscando equ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Yo podría empeñar los más caro que teng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que es mi libert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Sería un honor, ay amor, ser tu escla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Sería tu juguete por mi volunt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Y si un día glorioso en tus brazos acab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¡qué felicida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Joan Sebast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Cette chanson, c’es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oman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i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isto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érie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é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487692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i j’étais chanteur, je voudrais chanter une chanson comme ça, bien qu’il ne soit pas fac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Qu’est-ce qu’a passé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s Anglais ont envoyé les francais d’Acadie aux autres parts du mo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Évangéline cherchait Gabriel a travers des 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Qui est Évangél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tre Protagoni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 heroïne de beaucoup des gens en Québec, Acadie et Louisi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St. Martinville, LA : Longfellow's Evangeline, St. Martinsville LA"/>
          <p:cNvPicPr/>
          <p:nvPr/>
        </p:nvPicPr>
        <p:blipFill>
          <a:blip r:embed="rId2"/>
          <a:stretch/>
        </p:blipFill>
        <p:spPr>
          <a:xfrm>
            <a:off x="1143000" y="457200"/>
            <a:ext cx="6950160" cy="5211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38080" y="60199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a statue d’Évangéline en Saint Martinville, Louisia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Nous Nous Souven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205740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219320"/>
            <a:ext cx="7848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«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Il existe encore aujourd’h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Des gens qui vivent dans ton p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Et qui de ton nom se souvien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Car l’océan parle de t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Les vents du sud portent ta vo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De la forêt jusqu’à la pl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Ton nom c’est plus que l’Acad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Plus que l’espoir d’une pat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Ton nom dépasse les frontiè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Ton nom, c’est le nom de tous c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Qui, malgré qu’ils soient malheur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Croient en l’amour et qui espèrent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Pour quoi nous nous souvenons notre histo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’est une partie de n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’est important pour comprendre notres ancêt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 tu ne sais pas ta histoire, tu dois l’apprend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Qu’est-ce que nous enseigne ce con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l faut que le gens se souvienne sa histoire et l’histoire de son peu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rois-tu que l’histoire soit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Les bonnes chan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rois-tu que les bonnes chansons soient simples ou qu’elles aient un sens plus gr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l vaut mieux que les chansons nous fassent sentir des émo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07:30:44Z</dcterms:created>
  <dc:creator>ric bacon</dc:creator>
  <dc:description/>
  <dc:language>en-US</dc:language>
  <cp:lastModifiedBy>Toni Theisen</cp:lastModifiedBy>
  <dcterms:modified xsi:type="dcterms:W3CDTF">2007-02-10T16:39:21Z</dcterms:modified>
  <cp:revision>12</cp:revision>
  <dc:subject/>
  <dc:title>Slide 1</dc:title>
</cp:coreProperties>
</file>